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es </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ory reception, or sense perception is the mechanism or faculty by which an organism is able to react to changes in its external or internal environment, in particular through the activation of specific parts which transform the energy change involved into vital processes. In all higher animals this involves transduction – conversion of internal or external stimuli into nerve impulses that travel to specialized areas of the brain, where they are analyzed. The higher organism is thus enabled to react appropriately. Ancient philosophers called the human senses “the windows of the soul”, and Aristotle enumerated at least five senses – sight, hearing, smell, taste, and touch and his influence has been so enduring that many people still speak of the five senses as if there were no other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du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alit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stibula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stibu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r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aneo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olymp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te bu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ill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merulu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meant by “sense percep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senses did ancient philosophers enumer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the modern sensory catalogue inclu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all receptors give rise to direct sensory aware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most efficient means of classifying sensory syste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categories of sensory nerves are present in hum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the transduction processes for all human senses ha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the cutaneous senses inclu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function of the vestibular syst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rotation regula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gustatory sen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olfactory sense consist of?</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appropriate form of the words in brackets:</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ll receptors give rise to direct (sense) awarenes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reening is very important in the (prevent) of a diseas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 progress is being made in the (chemotherapy) treatment of (virus) diseas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vaccines are usually considered (risk) to people who have a damaged immune system.</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people have diabetes but they are (aware) of i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diagnose) on time, some diseases can lead to serious complications affecting various parts of the body.</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y appropriate prepositions for the following words:</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i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v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n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ry.....................................................</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verbs in brackets into the correct tense:</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long she (give up) smoking? She (do) that recent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make) plans how to carry out his important experimen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days ago, their friend (sprain) his ankle and he (must ) go to hospital.</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fast you (drive) when the accident (happen)?</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ctor (study) the case for the last 20 minutes, but he (not draw) any conclusion ye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fessor said that he (wait) for that opportunity for a long tim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is time tomorrow, my associates (work) on a new projec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hoped no one (know) what (happen) to him.</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finish) our research by the end of May.</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s friend (check) his blood pressure almost every day.</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and function of sense org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se organ diseas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2T20:38:01Z</dcterms:modified>
  <cp:revision>30</cp:revision>
  <dc:subject/>
  <dc:title>Slide 1</dc:title>
</cp:coreProperties>
</file>